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0E4-68C1-43FE-B020-D2A13860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383-6E21-4E3E-B75A-7FEF2A57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0BBF2-DB13-45B7-A539-256719A4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DB662-4E8C-450A-B766-2870C0A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56C10-3BE9-4489-956C-9ACDB230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D3BBF-C8C6-4D8C-9F05-A08750E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67FB6-94E3-4E07-9EDA-2F84A81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6796F-633E-4352-824E-D0470309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3C785-ED29-4844-B38B-0D5F83F1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9EE2D-96A7-4301-8214-4D08DABC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28F8C-5FD5-475A-AFE7-47A48BBD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01BB0-FE71-402D-8EB4-A14B213B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E80-3B75-46B2-B47B-B84FE180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DC486-C102-4474-9616-D36304BC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49160-6738-45E3-BC71-6C60F800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4FFC3-CB19-4E1B-B497-09B2D590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EAB6C-686B-41A6-826B-2966410F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A8B01-861F-4DE0-B3FD-5C2670B2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B0529-BFF2-4416-9917-4E577B3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63CF7-34B0-4624-8676-2637AA8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0C211-FFD7-47AD-BDED-D8E145A9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3E684-0451-4AD2-A85C-9CCB05AC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24F09-DC00-4C3F-AF0A-B7E31BDD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BA1-19A4-4939-A7E6-7C281BAD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8AF77-C31F-4F04-A09C-451192F2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1EBEB-C8A9-4857-AC9A-ED9D4715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DF7B2-766D-46BA-8E86-0E72F655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3DE2D-9E7C-4964-9F8A-0CD88C6A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BB5AC-7E49-4ED4-8131-E636A42F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90EEE-5A9E-45BC-BFC1-3FA960A0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3B857-AFB6-45E5-AD37-332F8462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50C98-355E-4086-A44C-6FD2E7ED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512DF-7CBE-4400-84AE-5B5BC026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AC3CE-158F-4FAD-BDB3-BA326B91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683B-7F75-49F6-9AE6-DAECEF2D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B1EAB-D71C-4809-977F-7DD4B1AF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C4D43-DB8E-42F8-BE29-9F3B8A1C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2689B-F313-48BB-975F-8EE536C2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7747A-7899-42E9-BE8D-6D6AD2CC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53E40-C769-4C1A-B881-C9E4071F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D6BAA-0FC7-4F77-AF2C-90235944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20AA9-B833-4B47-94C1-7D988EC5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47168-81F0-4B56-A763-9D1358C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CDD06-139D-4E27-B9DA-FBD0981B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822FC-A894-4088-835A-B955941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A818-3D06-4F09-B0BD-272EC03F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EABF1-261E-4583-9382-EB2184F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E5C8E-C13C-448A-B43A-DA25C812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6C901-0689-4765-91F7-46C36E9C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D0632-0B5B-4EAE-9B41-C9C71294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006D1-8D35-4A1D-AE26-052E9F7F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43897-32C0-4B9D-8B45-40A4774D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0874D-029F-453F-AFD1-10A3DFDA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77DF9-1E1B-4FBF-8C35-3AF347CA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2D9AE-1247-478E-80F7-E7F0E902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6CCCD-FA08-49FC-B641-18A4F45C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F4FE-56B7-4BAA-B0B2-B105D595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61BCC-9939-481B-9B45-8F455D01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0A75E-3650-4116-8601-14B2BB9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73123-3321-4E23-8332-8FF1E4C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06B52-477B-4F48-B122-9DF9E5A0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99577-CEB2-4045-BA67-3F80AB39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295E7-142B-4A7C-B831-FB8215CF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CF07B-F9FF-412F-9E33-CC53B400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9E157-09AF-4601-A5E4-78F52B82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4A67D-AD40-423C-B737-195D58AE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ED606-762C-4C0C-AED5-AF2F658D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899F-7AE5-4CCB-9A5E-FA3E673A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496C9-B6EE-4BE8-B230-9EA94268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E9DC5-DC4A-4576-8251-030057F2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B26EF-8017-49C2-BA27-84376233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EAD26-4CC8-436A-A603-6D30150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9EB5C-23BA-47B8-BA2D-6B682CF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A7D96-3E18-4D54-8A02-172EA812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52194-74CD-4666-A584-0F69DEC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BA6A96-0BB0-41CA-B1C9-5B86E352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C3EA9-5244-4299-98F5-3288EDD3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E036B-6418-4900-BFA7-A153935F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38AF-078F-4A2A-BF02-A408295D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0BB40-83CE-43C4-8E18-E2D16804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189EC-34C4-410F-A800-027146D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1C2CB-262D-4B09-A5FF-2F440582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8D67F-10E6-4A67-80B4-95E4A17F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1B0E5-A275-4732-9EBF-F09F30CE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381D1-6C3E-4CFC-8FFE-561E8D80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E5B57-506E-4124-95BD-3D64E3E6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DFBFB-AC30-462F-9745-2A3CB4E6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A54A9-DC92-4612-A939-D87DE80A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871A6-CF55-453C-A954-F5F50DCD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CE60-2C1D-4F44-8D1E-51C720AD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ACD1B-A57C-4D28-AD15-6210BB6F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622CB-86DF-46C8-8F90-3EE0C70C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87F9E-389F-4942-A6B3-F3734CD4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E69A3-31FB-4060-89D0-00F864A3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E45AC-5970-4D84-B803-293A22C5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1E66B-4CEB-4F63-9507-9FB7A5DB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6E655-3EFB-4274-B9D9-8B8C812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05B5E-7F0A-4B39-B206-FB53F0CA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E3FE7-986D-4F41-85B4-FD9D657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8E395-A433-4873-938A-FD5DE92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8EFA-B468-466C-9BD3-A4D28BEE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C0576-8097-43C5-9298-B91396A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075B3-9947-4D59-80E8-D19ABDBC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C2F3E-CF1B-41EB-80D0-1B30A84B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0ED5A-945D-4D17-88E1-5AFA2AD6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A5EFA-20E0-43D9-8061-9AE70C5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29CD9-AE85-4FEA-8E29-1044523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47C8F-EB40-42B5-8893-4D15AAEB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5E2C1-6429-4B3E-8E4B-E06845B2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1A249-A3EA-4C79-A97E-20D6C5D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4AAD9-D2C3-4BD9-8DD6-E11F913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B44-4A52-4A83-B084-19AB995D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D732-CC45-45B1-825B-AD765A6F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249E1-F458-49F8-A4D4-79B77DA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315A4-2248-472E-804C-23E5E36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68709-46A3-4DA9-8405-3913E88B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79938-23F7-4B03-95C6-67BC98CA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B492C-D53D-421A-88DA-491DF125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C1030-4947-49BA-BB2E-5E007014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A0570-9939-4F33-8557-A768273C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8F177-39A3-4A3A-A1BB-3DD701C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83549-D45C-4DE6-8497-8A3556BC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3F3A5-ADF7-4A99-A7CA-D560B9C0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3CB0-10C1-4798-BB61-38969A3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0DC4D2-CBD4-4123-8F16-926D29D3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86788-80BF-49CE-BBB6-37B1B60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98A70-2EA2-498A-A930-1285482C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08C70-461C-4F1A-B298-CC03F67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52686-4403-4D88-9256-CF0DD82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80B2A-44B5-4660-A89C-A6EEA431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BA15F-9694-40EC-A4A8-A2E4B4C1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A0159-3CF8-4FAF-B5CF-0009F78B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1A5FC-F335-4D8B-93A3-E7B381AF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C5587-0033-4730-B5E0-C9EE8C3A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45D7-0FFB-448A-9B23-8FE06490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8D5B6-3776-4E21-9CD7-36167A9E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9E81CC-4258-425A-BEBC-D5005628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0F3A6-5E1B-4279-9257-743AE8AA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8F036-BF14-4E32-B84B-350A3D9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1F8FC-26B9-4B2B-A6E4-449AE24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BB969-02BB-47D0-90F6-5A7AADA8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61B4F-440A-4470-8D7E-B61916C7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3F8A4-4A1D-4653-BF09-F467213E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4B2BA-CD6D-4341-9174-70843F72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1FC05-BEB3-4E97-A6E5-28044ABF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9242-38E3-4B8C-A878-40762401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C3FDC-C093-4D25-8A0C-895F56A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772A2-8528-4C7C-97C3-B0127FE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02CBA-A748-4116-A751-11B0F947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D861E-195C-4D83-B8B8-CDE4E937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B6408-9223-4F4A-8644-94376E7A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CBC2D-4FD6-48B8-92E2-3BEF31AD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80C02-1B2C-4412-ABBB-9FC616CD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D60FD-4DCB-411A-B659-2C713B2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9B91D-F671-4A41-9B24-335AD8A4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C9C12-83EE-408C-AD32-F025D46D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3764-4239-43C2-AE6F-A8D8D9CA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EAB97E-1278-446C-9538-EE1F5AC6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C68E46-8FEF-4E7F-8CB7-7FE223C1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8CA52-3EEC-4CBC-A822-9B5299D2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2F355-93D9-4E14-A286-012257A3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8B6D6-66AC-441A-A038-53BE1A2A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53720F-6BAB-4662-A3E2-5A1CF900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D8629-2F8E-497A-947B-EAF028ED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3C281-A54A-4A67-AEC2-1E7B6238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78661-206A-4CDF-8763-F104D82B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9DA5F-34B2-4896-84A8-FACD4357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1591-57ED-46FF-BA26-0012A79E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061D10-73E0-4C4F-A640-235D832D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F08B37-B180-425B-9A6F-692699E6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63E87-9DFC-4401-8DDA-20561B69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D426-1C2A-427C-BBD7-A868F6BD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75E1-5936-4098-BE59-F787900B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BE0E-60A4-49F7-BCE6-61AF9AB0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FD15-7760-4E47-AE17-EFEC677F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59E-C61E-4AAE-861C-EFC59722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1725-89AF-47DE-AD49-40F5390F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8F11-301D-42E3-A197-2E296AA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11CC-E012-4573-AAFA-990B2AC5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8D8D-C913-4C94-AD20-F63C9B0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7B9E-5DAF-44DC-A2AA-7EB5CE8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1379-0CF0-469B-8626-D5BDF161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16A0-9595-4BAB-A328-D6E6BB34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0CF1-57E4-48E5-9B90-72996E5E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E2668-CCF2-4EBD-B7D2-0A5C96B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5A41-A07A-4D0B-8D1D-450B845A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F34-EA34-426D-AFB0-5425FDBA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51D22-8635-4467-AE93-5E78098B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743E-819F-4711-A406-D2CDBAE7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2562-CD32-475C-8714-99DFB528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DD2F-AEFE-4730-8D57-498419E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25D2-1C71-4BF8-BFC3-04673048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83D2-1DEB-43F3-B492-50DB016D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1410-F7F4-4BBD-BC1E-BFCD69C3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2A8D9-805D-44B0-AC3B-F4DE8527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BB70-AC5F-4974-8A1B-83BAD87C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E4FBA-B96E-4F03-A253-AA8873C7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038-618E-4AD9-8C0F-E8426B4C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B42A-72DD-4982-B7F4-424BF3F1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B9D4-6529-4656-837F-968B4058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D47D-651F-429C-9F4E-925C17A6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21E9-42FB-4744-B6EA-80227D0F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9028-6AEB-409C-AB86-EB7BAC4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D65E-59CB-4855-826F-29B3207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E50B1-F77C-480F-8501-FE031B96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F1273-3A6D-41DA-8940-585E14E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2DA5-9344-4A91-BC1F-1F63523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D4E6F-D12B-4409-A108-26C157C6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AFA-DE00-4F9C-9024-ED327535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26F77-D987-4A77-99A9-823FA361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90BF9-7077-4D4D-BE8F-4D4C6172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8B9B-AF37-42E3-9854-FBE13086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4CE9-4F22-4065-9CB9-16AC10E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A706-7376-4E9D-8599-6B41E548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6DB5-E9AE-4D4D-80CF-CD5978C1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4BE0C-D6E5-4910-8664-716CA7B9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16F87-FEBE-4FB9-9FED-515781A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F148-DEDC-43B4-B3F2-95CE3CB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CEA1-FC69-4F30-A0EF-4A2F537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960-4295-4F88-9BA4-B588108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372F2-B629-4232-9A46-2FE1A10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5E504-8198-4EE8-9C17-CA0A3453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9280-B764-4AC3-8082-2BDCA1A6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6C250-D765-4DAC-AB85-0CC1D9A9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DDA2-4251-4F52-8E18-FA4C7C7F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55DCA-47F2-4645-AA63-63C733D1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A5B4B-A7FB-4B49-9856-352B1508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FF69-C118-4E43-B723-AB2B34C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81E9-FA05-4EEC-818B-B0FC5163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38DEB-41A8-4722-BA8C-EB93E731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99D-6C01-499E-825C-A51DFD7C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1BD73-3D33-434E-93CD-E2748C61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6ABB3-8DC1-4880-918D-FB4518E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85ED0-519A-4030-8479-D3E8FDD5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B63CC-753B-4FCF-92E4-543B6236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A9F2F-08BC-43EB-8158-940C403E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F5EB4-47EC-4434-9F44-CF084CAC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49B7F-A9CC-4BE4-A8DF-CC4DEE4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EBC3D-668C-43A0-B408-1D950BB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AB3D1-E858-4B9E-98B1-8D844315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AC2C5-0FBC-43FF-9F46-12CBC4C7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A5E-E03E-4B47-93B5-38318FCB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81C52-54F8-403A-A2EB-FFE73AE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1840A-7D73-4D5B-9647-E4351526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7716B-EFCC-4799-8D05-19E6295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9C81D-DA91-4326-A0CD-4420194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E340C-8928-4B6E-AECF-271BB437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70754-F2E9-42C2-B39C-FEB47885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0C18C-39E0-46E0-8E5B-88CB3331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F2C7A-E440-4957-A20A-4F63F6D5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C2675-007C-45AC-A2C7-CDB79476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85F80-D7E6-4822-9742-3C176DBE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5CBD-C4C5-4B0E-B6E7-93F0E09A0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0D2-37A6-4BBC-81BB-C968456CB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5AC4-D82C-4074-A616-90A6EDA0E7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7D5A-D8C4-45F5-B3CB-391DD071F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67ED-3CCF-4AF4-B642-45B7DFDC96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B6AB-4FA6-4B95-B30D-31517347B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5D75-E5BE-448D-8A21-2A53B60E3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AED6-389B-40D1-9F08-FE5D26B6E4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ED7-D20F-402C-9420-390C0D073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4006-D13A-44A1-A181-87582B087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0C1E-7B7C-49FC-AA5F-9920094149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CB6-2444-4E54-BFEA-B820A8AC39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1B89-F183-4588-8F46-6F562455E0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9A46-69AB-4146-9406-DE554A210A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392B-BFD3-4BC7-A12C-2722F5A4CC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F38D-C6A8-4B27-9B27-B086EF435D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F037-E936-41D9-9BDC-71EA48356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6F86-DD35-4F1B-9454-7434A29F5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2A22-56AF-4D05-A9FC-9D6300B1A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9A6-F91D-425C-8FA6-0509D7EBD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7823-E680-4902-846A-C5E9483306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2592-3FE8-4C2E-879F-0AB35DCEB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B258-E7A0-45B6-A2A1-9BF8543B9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C9D8-7B94-4F6C-A934-502E1FA79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23AE-1329-48BF-80C8-08628619E8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1DBF-20F9-4736-B51B-EF44CEA01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BA36-376B-4522-9C4D-392D4AEDAB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E27D-765B-465D-84DA-0BDE1AF3B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B9D8-39D0-494B-BBB9-7DEE6EB3AF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AC3C-ED88-4B5C-846E-5867BCD0E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B69D-C0F4-4A08-985C-A5A33324F7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8B4-CF3C-4F9B-9460-C49FFFADD0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F96-AB74-46C8-828F-C25D5F803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303F-A95D-4D85-AFD5-B7FD610690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6237-4295-4D9D-9E3D-F24ED3493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BDDE-66BC-4B68-BF63-71D876310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67EF-AA80-466F-99BD-ADD8ECFCA5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0CE7-3A38-4F1D-9A53-A8C5B750F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A4A-C346-43FF-A17B-2A0CF49A48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FAED-04D5-4FDD-B4B5-6A42F7045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8520" y="3043080"/>
            <a:ext cx="883620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19160" y="1343160"/>
            <a:ext cx="8904240" cy="4171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19098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2781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258920" y="4653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81080" y="852480"/>
            <a:ext cx="8781840" cy="5610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187280" y="4149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187280" y="554508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09440" y="1571760"/>
            <a:ext cx="8923320" cy="3714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101600" y="21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116000" y="39481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328680" y="1619280"/>
            <a:ext cx="8485200" cy="36194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303200" y="386064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2:0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